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640-562B-4397-84DE-610EA05F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83A-E8A8-4C41-BF44-992869F08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F14-4A3E-485C-A301-0AFB3CE2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039-EA93-40E6-9C75-3741F63D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B5A3-21BA-47EA-92E0-A15FB7CC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38F-BB59-4ABD-9FF9-B722EC48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E6F-120E-4A5B-9679-9B73C291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601-3A50-40D3-8818-14492D87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489-46D1-4E11-8B14-AA1BCD63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160D-E87E-49A1-A40F-8AF1FCE6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925-539D-4348-8012-A9090BAD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36D7-57D3-4B35-90E8-9B4F2AEE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E150-26AD-4B41-AE45-B7B181F14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447-4E60-425C-B1C3-2CEA7A499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925B-5CF7-4993-BEAC-8BBDAE17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EFE-9909-426A-90B0-EDFB8762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918-D3C8-440A-A7DD-D227956D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56CD-C6C6-4C8F-8B39-2C96FB10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F624-6C33-4F13-A5B4-1965034D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9987-89E3-410A-9663-E04E8AFA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51C-5471-4D72-9A4F-6463B2DFB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4B04-D6B8-4B9F-A964-5C0BF35E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EE7-0B76-4055-A09F-6DD5EFD6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F9C4-A060-4623-A9C4-8C5BA511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379-22E8-4241-AECB-71C9387C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D6A-53C3-40BD-8318-EACF321C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055-F9C7-4404-98E8-F881DE3A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715C-3015-4176-B5C3-B1E7948B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9B74-236D-453C-9696-6968615FB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75C-627A-4861-ABF4-1F923F7AA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31B-22FA-418E-8C19-B10FDDBD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75A-CF99-4546-9794-3C0737C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D3B-11A3-4936-AB30-90DBE7E6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492-90F7-48BC-9BD5-1019AC75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031-24B2-4547-A581-66D7BB87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674-4AC1-4ABD-98DB-CDFBAE3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C6E-6463-4A50-BEC9-6EEB8BE8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0833-1AD3-4B6E-B34E-689B407E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495A-BDDA-445B-95B0-99F7C4F7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5BD-7977-4635-B0CC-FC9A1AFB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93D3-7767-4939-977D-11288EB1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DBA-5B75-4C76-81E5-16AFF97D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98DE-3672-405A-B164-03498CB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44A0-A6C0-4226-B66E-87E77B2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1BD9-9C25-4C41-9D98-28D02E4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2AD-382C-4E43-8B2A-F1F05270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9963-C0D4-450B-80B9-BFF67B1F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5A6-9443-4933-8773-2E588BE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84B-DBC4-4DCD-B97A-CF2B536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F64-DE20-47D8-A6BC-7086FD52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1B1-1DEF-4C87-ABC9-B35AED58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958-12DE-4A24-832C-C0C13E4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FC6-86F2-459F-AC80-27B2FA8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B41-80E5-44AB-9069-94E9D68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F0B5-C9C8-4726-BA1F-404E76714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732F-1830-4A3E-AFC2-10EA3175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hinking Our Classroo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I i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ac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qualitative than quantit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oted in assess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multiple approaches to content, process, and produ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-cente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nd of whole-class, group, and individual instr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to Differentiate Instruction in Mixed-Ability Classrooms – Carol Ann Tomlins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effective Class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Class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mplary Class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ccess - Achiev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e stud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Different Teach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the results be differen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s of Differentiated Instr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Environ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iculum – Cont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ssment – Produ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 -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in Need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principles from brain research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safety, appropriate challenges, and self constructed meanings suggest that a one-size-fits all approach to classroom instruction is ineffective for most students and harmful to some.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Me Teach My Brain – A Call for Differentiated Classrooms – Carol Ann Tomlins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 Compatible Learn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in research confirms what experienced teachers have always known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wo children are alik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wo children learn in an identical w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nriched environment for one student is not necessarily enriched for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should teach children to think for themsel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 Compatible Learn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 doesn’t need motivated to learn any more than the heart needs to be motivated to pump blood.   Most classrooms actually de-motivate children to lear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lie H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 Compatible Classroo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Brain Compatible Fundamen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otional Wellness and Safe Environ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are students’ emotions linked to memory and learning?  How do stress and emotions affect student learning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, Movement, and the Bra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 oxygen, water, sleep, certain foods, and movement affect students’ brains and their learning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vant Content and Student Cho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the brain remember some information and skills more readily than others?  How, when, and why should we offer student choice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, Time, and Mor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hree time elements dramatically affect when and how well students learn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richment for the Bra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enrichment just for gifted kid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ment and Feedbac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forms of assessment are and are not brain compatibl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and why do students learn effectively through collaborating with others, both adults and peer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Wellness and Safe Environ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all your most memorable school experi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ystalliz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yz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ss and Mem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stress=memory impair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 Enviro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f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ations for Stud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 Behavi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 is and is N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 Resear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of D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ining Learning Sty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ing Your Students For Differenti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dy, Movement, and the B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n uses 1/5 of body’s oxygen – weighs about 1/7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the body’s total we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n’s second favorite foo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ge 12-17 need 8.5 – 9.25 hours of slee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uits and vegetab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eakfa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 oxygen level in the body by 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ge lo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evant Content and Student Cho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terns and conne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cho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SDTVFBIJFKUS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Y PPS SASE SNC L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dnuolt blveiee taht I cluod aulaclty uesdnatnrd waht I was rdanieg. The phaonmneal pweor of the hmuan mnid, aoccdrnig to a rscheearch at Cmabrigde Uinervtisy, it dseno't mtaetr in waht oerdr the ltteres in a wrod are, the olny iproamtnt tihng is taht the frsit and lsat ltteer be in the rghit pclae. The rset can be a taotl mses and you can sitll raed it whotuit a pboerlm. Tihs is bcuseae the huamn mnid deos not raed ervey lteter b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tlef, but the wrod as a wlohe. Azanmig huh? yaeh and I awlyas tghuhot slpeling was ipmorantt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me, Time, and More Ti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on Tas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minute per year – 20 minute max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breaks to increase productivity, quality, and mora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for More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 over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ual understanding linked to prior knowled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portune Time Periods for Lea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richment for the B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zzles, braintea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of the 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m’s Taxonom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lifting s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ground mus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gs for lear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nviro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rs/Patter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from 1 to 6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6 x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number is 1000 less than 18,29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About how much is 3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¢ and 29¢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. What is 1/10 of 45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 Draw a picture of 1 2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 About how much do you weigh in k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essment and Feedbac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ent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e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ctations/Rubr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mod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r and Sh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perative Lea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 between School and Commun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inwashing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children can lear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are a gifted teacher of gifted childre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s are no better than the assignments they are give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s fai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k outside the box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gnitive Learning Sty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rete Sequent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 Sequent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 Rand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rete Rand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ing Your B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Intelligen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bal/Linguis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/Spat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/Mathema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al/Rhythm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ers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pers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ily/Kinesthe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is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ent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ing Modal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di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esthet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ing Your Students for Different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Sty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Invent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rness Activ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e call </a:t>
            </a: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ifferentiation</a:t>
            </a:r>
            <a:r>
              <a:rPr b="0" i="1" lang="en-US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not a recipe for teaching.  It is not an instructional strategy.  It is not what a teacher does when s/he has time.  It is a way of thinking about teaching and learning.  It is a philosophy.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arol Ann Tomlins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dset – Behavior - Resul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beliefs and attitudes create your mindse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mindset determines your behavio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behavior determines the results you produc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understand your mindset, look at the results that you produc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duce different (more desirable) results on a consistent basis, change your mindset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Performance Fac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les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ort produces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is about making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 with and through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takes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vation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for School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les of Te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acher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ed teaching promotes accelerate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expectations and continuous feedback activat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builds on students’ strengths and respects individuals’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involves modeling what students shoul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for School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les of Te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acher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ed teaching promotes accelerate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expectations and continuous feedback activat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builds on students’ strengths and respects individuals’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involves modeling what students shoul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for School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I is NOT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ized Instruction” of the 1970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ot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 way to provide homogeneous group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iloring the same suit of clothes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to Differentiate Instruction in Mixed-Ability Classrooms – Carol Ann Tomlins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1:00:40Z</dcterms:created>
  <dc:creator>Philip J. Pockey</dc:creator>
  <dc:description/>
  <cp:keywords/>
  <dc:language>en-US</dc:language>
  <cp:lastModifiedBy>ccotner</cp:lastModifiedBy>
  <dcterms:modified xsi:type="dcterms:W3CDTF">2008-04-20T16:14:41Z</dcterms:modified>
  <cp:revision>24</cp:revision>
  <dc:subject/>
  <dc:title>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01033</vt:lpwstr>
  </property>
</Properties>
</file>